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1B2-A8BE-400D-B94A-3F767D3C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6EF-8994-43BE-A830-FF48447E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F90-3015-4C11-910C-B9B9AB74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D2E-EC88-4E24-9F1F-E1950553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8EF-DA98-4421-80A7-886382D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CD9-6416-4869-A471-E9525C07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65B-41E8-4F39-A5A5-E4D2D58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F76-F3B7-42EE-AF2A-824948B1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948-E418-4D79-8E6F-A52781E7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D32-E392-40FF-B8FB-606DAC84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1CE-F626-4A77-A5D3-D3DE300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622-0EB5-4F69-AC5E-0A9C092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A6D-2BAC-484C-87E3-74E709DF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e baut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 lovet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5/29/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 to be domi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n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ica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43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964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1708200"/>
            <a:ext cx="7619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lap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7:51:26Z</dcterms:created>
  <dc:creator>Administrator</dc:creator>
  <dc:description/>
  <dc:language>en-US</dc:language>
  <cp:lastModifiedBy>int_lab_201</cp:lastModifiedBy>
  <dcterms:modified xsi:type="dcterms:W3CDTF">2011-05-12T18:32:16Z</dcterms:modified>
  <cp:revision>4</cp:revision>
  <dc:subject/>
  <dc:title>Jose bautista ms lovett 05/29/11</dc:title>
</cp:coreProperties>
</file>